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5898-2894-45A0-875F-B9D515F6D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B22E-68C5-4F79-B6C1-CC792D3B9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EEEA-D5EF-45B0-983F-D3063A3FF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7FB8-0AF6-47AC-8AD9-2104E66B0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7523-C234-4410-867D-0FCEF7989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96AB-AF06-4786-BD94-F4EECE9BF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C495-8EFD-49E5-8C3D-EF3E62557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EB86-AB11-4C19-B9E3-4DAEB4C07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AA45-641C-4685-B2DE-F3D9F3408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BA99-715E-481C-BB8A-E3D050ED1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3E05-3A15-4470-B20D-2AB271FA3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FF98-0DE1-4ADC-9A45-A0F4E42DE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2276-8822-4C77-B4E0-9DD22F34AB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FE13-2B4E-4CD5-9A7B-4E7F6412AA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0FC5-4B3D-4BC7-ADE8-B1D01461B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6D25-68AC-4725-B731-B830F156BE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3B88-C4FB-4EAC-83C9-6FB58F9A4A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C2E7-DE05-41AE-99A9-E525F2C432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9ABB-FF33-4B0A-97DF-5C683E4CC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F45E-47DB-42BD-8022-B86358F0F3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72F5-83F2-472D-A492-A133961ABC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6F2C-A450-4F93-BEA4-5EC2BAAB8D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8639-2FBC-4817-874F-25CE8FCCC7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8005-B77C-4635-9DCC-F67BC46CF5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2FE55-1AA5-4C69-9DF2-F4D7A56E3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2DA90-1876-44B7-BB91-955DCD88DEE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F092F-EADC-4C4A-B095-CB11A80581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60670-8FF7-43F4-9B4A-5CE9E13B944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83261-3027-4CAF-94DC-9D9104127D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74B9A-89E0-40CF-934A-DE0B0F87BA5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35047-0E92-49DE-8C36-D16F76A5E8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C20D9-7752-4044-9460-619346FF2C1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79C2F-5DD7-4784-9919-E22527C23D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502F3-F332-4EE4-81DE-2812020C2BE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BC80F-A065-4F08-8C76-1B4B93A62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49304-95DB-4170-BC68-CAF03ACC665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A509B-5D46-46FB-96A3-B3A3C447B0B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5D897-32FA-475D-90D4-CE4CD550FE0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772B1-53A3-4686-96B4-89B44CE242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41E6F-FFE2-4CD6-8010-6B04483465E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726CE-76A1-45A5-9DFF-8A5CD0E90A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9544E-9D2E-4398-A2B8-3CA7F39DE4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B89BF-0417-4A6C-8107-B891DBFE5E9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E9887-0A13-4DA0-8C7D-B0769076D7A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A1C57-5A5C-4D75-9823-C9CECFD98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6DFFA-04E2-4FAE-8E02-6AD86D6DAC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34887-3BD3-4860-BB2B-724589F3E40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1447F-28A4-4DC7-A0A6-80DC3713E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3D1FE7E-D2C2-4744-978A-0227A62CEEF6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1B230E5-97BA-4C2C-8A1E-D8834876F91F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3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87ED006C-FE68-4BE4-8EDE-7A91D53E7B6C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new layout art3.png"/>
          <p:cNvPicPr/>
          <p:nvPr/>
        </p:nvPicPr>
        <p:blipFill>
          <a:blip r:embed="rId3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2083840-4228-43DD-8B72-FED13D4031FD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5"/>
          </p:nvPr>
        </p:nvSpPr>
        <p:spPr>
          <a:xfrm>
            <a:off x="6539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2E3F7B6-66A0-41F2-AD0A-ADE7E52AA9B7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89000" y="6008400"/>
            <a:ext cx="87660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: Digital Communication Tools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ouse and Pen Pointer Shap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7053120" y="1714680"/>
            <a:ext cx="1249560" cy="38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1"/>
          <p:cNvGrpSpPr/>
          <p:nvPr/>
        </p:nvGrpSpPr>
        <p:grpSpPr>
          <a:xfrm>
            <a:off x="907920" y="1600200"/>
            <a:ext cx="7061400" cy="984240"/>
            <a:chOff x="907920" y="1600200"/>
            <a:chExt cx="7061400" cy="984240"/>
          </a:xfrm>
        </p:grpSpPr>
        <p:sp>
          <p:nvSpPr>
            <p:cNvPr id="283" name="Rectangle 3"/>
            <p:cNvSpPr/>
            <p:nvPr/>
          </p:nvSpPr>
          <p:spPr>
            <a:xfrm>
              <a:off x="907920" y="1600200"/>
              <a:ext cx="538344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row pointer shows where mouse is loc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Picture 7" descr="pointer 1"/>
            <p:cNvPicPr/>
            <p:nvPr/>
          </p:nvPicPr>
          <p:blipFill>
            <a:blip r:embed="rId1"/>
            <a:stretch/>
          </p:blipFill>
          <p:spPr>
            <a:xfrm>
              <a:off x="7369200" y="1751040"/>
              <a:ext cx="600120" cy="75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 17"/>
          <p:cNvGrpSpPr/>
          <p:nvPr/>
        </p:nvGrpSpPr>
        <p:grpSpPr>
          <a:xfrm>
            <a:off x="879480" y="2416320"/>
            <a:ext cx="7164360" cy="1196640"/>
            <a:chOff x="879480" y="2416320"/>
            <a:chExt cx="7164360" cy="1196640"/>
          </a:xfrm>
        </p:grpSpPr>
        <p:sp>
          <p:nvSpPr>
            <p:cNvPr id="286" name="Rectangle 8"/>
            <p:cNvSpPr/>
            <p:nvPr/>
          </p:nvSpPr>
          <p:spPr>
            <a:xfrm>
              <a:off x="879480" y="2416320"/>
              <a:ext cx="5425920" cy="11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tical bar appears in areas where user can enter words or numbers or select text (Insertion Point/Curso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Picture 9" descr="pointer 2"/>
            <p:cNvPicPr/>
            <p:nvPr/>
          </p:nvPicPr>
          <p:blipFill>
            <a:blip r:embed="rId2"/>
            <a:stretch/>
          </p:blipFill>
          <p:spPr>
            <a:xfrm>
              <a:off x="7315200" y="2618280"/>
              <a:ext cx="728640" cy="88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Group 19"/>
          <p:cNvGrpSpPr/>
          <p:nvPr/>
        </p:nvGrpSpPr>
        <p:grpSpPr>
          <a:xfrm>
            <a:off x="922320" y="4367160"/>
            <a:ext cx="7101000" cy="952560"/>
            <a:chOff x="922320" y="4367160"/>
            <a:chExt cx="7101000" cy="952560"/>
          </a:xfrm>
        </p:grpSpPr>
        <p:pic>
          <p:nvPicPr>
            <p:cNvPr id="289" name="Picture 14" descr="pointer 4"/>
            <p:cNvPicPr/>
            <p:nvPr/>
          </p:nvPicPr>
          <p:blipFill>
            <a:blip r:embed="rId3"/>
            <a:stretch/>
          </p:blipFill>
          <p:spPr>
            <a:xfrm>
              <a:off x="7389720" y="4367160"/>
              <a:ext cx="6336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15"/>
            <p:cNvSpPr/>
            <p:nvPr/>
          </p:nvSpPr>
          <p:spPr>
            <a:xfrm>
              <a:off x="922320" y="4437000"/>
              <a:ext cx="54259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-sided arrow indicates a resizing handle or window bor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1E239C12-274C-4E05-976F-61544957A6AA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8"/>
          <p:cNvGrpSpPr/>
          <p:nvPr/>
        </p:nvGrpSpPr>
        <p:grpSpPr>
          <a:xfrm>
            <a:off x="922320" y="3618000"/>
            <a:ext cx="7016760" cy="885600"/>
            <a:chOff x="922320" y="3618000"/>
            <a:chExt cx="7016760" cy="885600"/>
          </a:xfrm>
        </p:grpSpPr>
        <p:sp>
          <p:nvSpPr>
            <p:cNvPr id="293" name="Rectangle 10"/>
            <p:cNvSpPr/>
            <p:nvPr/>
          </p:nvSpPr>
          <p:spPr>
            <a:xfrm>
              <a:off x="922320" y="3621240"/>
              <a:ext cx="542592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sy or spinning pointer indicates that the user should wa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Picture 17" descr=""/>
            <p:cNvPicPr/>
            <p:nvPr/>
          </p:nvPicPr>
          <p:blipFill>
            <a:blip r:embed="rId4"/>
            <a:stretch/>
          </p:blipFill>
          <p:spPr>
            <a:xfrm>
              <a:off x="7358400" y="3618000"/>
              <a:ext cx="5806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ouse and Pen Pointer Shap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907920" y="1600200"/>
            <a:ext cx="53834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or four-sided arrow indicates an object can be 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7053120" y="1714680"/>
            <a:ext cx="1249560" cy="28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pointer 5"/>
          <p:cNvPicPr/>
          <p:nvPr/>
        </p:nvPicPr>
        <p:blipFill>
          <a:blip r:embed="rId1"/>
          <a:stretch/>
        </p:blipFill>
        <p:spPr>
          <a:xfrm>
            <a:off x="7224840" y="1758960"/>
            <a:ext cx="842760" cy="82548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7"/>
          <p:cNvGrpSpPr/>
          <p:nvPr/>
        </p:nvGrpSpPr>
        <p:grpSpPr>
          <a:xfrm>
            <a:off x="907920" y="2489040"/>
            <a:ext cx="7101000" cy="916200"/>
            <a:chOff x="907920" y="2489040"/>
            <a:chExt cx="7101000" cy="916200"/>
          </a:xfrm>
        </p:grpSpPr>
        <p:sp>
          <p:nvSpPr>
            <p:cNvPr id="300" name="Rectangle 7"/>
            <p:cNvSpPr/>
            <p:nvPr/>
          </p:nvSpPr>
          <p:spPr>
            <a:xfrm>
              <a:off x="907920" y="2489040"/>
              <a:ext cx="54262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inting hand appears when user points to a hyperlin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14" descr="pointer 6"/>
            <p:cNvPicPr/>
            <p:nvPr/>
          </p:nvPicPr>
          <p:blipFill>
            <a:blip r:embed="rId2"/>
            <a:stretch/>
          </p:blipFill>
          <p:spPr>
            <a:xfrm>
              <a:off x="7321680" y="2516040"/>
              <a:ext cx="687240" cy="88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Group 18"/>
          <p:cNvGrpSpPr/>
          <p:nvPr/>
        </p:nvGrpSpPr>
        <p:grpSpPr>
          <a:xfrm>
            <a:off x="922320" y="3403440"/>
            <a:ext cx="7097760" cy="916200"/>
            <a:chOff x="922320" y="3403440"/>
            <a:chExt cx="7097760" cy="916200"/>
          </a:xfrm>
        </p:grpSpPr>
        <p:sp>
          <p:nvSpPr>
            <p:cNvPr id="303" name="Rectangle 9"/>
            <p:cNvSpPr/>
            <p:nvPr/>
          </p:nvSpPr>
          <p:spPr>
            <a:xfrm>
              <a:off x="922320" y="3403440"/>
              <a:ext cx="54259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n appears when using handwriting recogn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Picture 15" descr="pointer 8"/>
            <p:cNvPicPr/>
            <p:nvPr/>
          </p:nvPicPr>
          <p:blipFill>
            <a:blip r:embed="rId3"/>
            <a:stretch/>
          </p:blipFill>
          <p:spPr>
            <a:xfrm>
              <a:off x="7343640" y="3611520"/>
              <a:ext cx="676440" cy="70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AE5BBFCB-DA2F-475D-8B2C-7D322E66D88D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indows OS Bas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ows OS open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in separate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re similar to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b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ll commands are dis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B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hows the name of the file &amp; application being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bbon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837B759D-4B41-4345-8E01-DCD96EC89540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indows OS Bas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om Slider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crease/decrease your zoom/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B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s the statistics of your document (page #, spelling/gramm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 Are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re you edit &amp; cr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B589FDBE-7AFD-4982-A9C4-ACCC294FD167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pplication Window: Powerpoin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62A3EA77-C10A-4C79-A12B-FE0354D63006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844560" y="1527120"/>
            <a:ext cx="79326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pplication Window: Pain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A21FF6C6-E070-45B5-8C83-926FE4CAC17C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001880" y="1531800"/>
            <a:ext cx="761184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Opening an Application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90360" y="1600200"/>
            <a:ext cx="398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click the desktop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from All Programs list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"/>
          <p:cNvPicPr/>
          <p:nvPr/>
        </p:nvPicPr>
        <p:blipFill>
          <a:blip r:embed="rId1"/>
          <a:stretch/>
        </p:blipFill>
        <p:spPr>
          <a:xfrm>
            <a:off x="5116680" y="1662120"/>
            <a:ext cx="3547800" cy="4484520"/>
          </a:xfrm>
          <a:prstGeom prst="rect">
            <a:avLst/>
          </a:prstGeom>
          <a:ln w="0">
            <a:noFill/>
          </a:ln>
        </p:spPr>
      </p:pic>
      <p:sp>
        <p:nvSpPr>
          <p:cNvPr id="270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9CFA9BC8-6BBF-49FF-9D59-C6A5BC6495B9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oving Through Open Window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application from the task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ALT+TAB to scroll through ope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how Desktop feature by clicking its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oll by holding down the Windows key+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1D550C7C-0633-404D-9AA1-00A46D0BFCEC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Resizing and Moving Window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990720" y="1724040"/>
            <a:ext cx="7696080" cy="4278240"/>
          </a:xfrm>
          <a:prstGeom prst="rect">
            <a:avLst/>
          </a:prstGeom>
          <a:ln w="0">
            <a:noFill/>
          </a:ln>
        </p:spPr>
      </p:pic>
      <p:sp>
        <p:nvSpPr>
          <p:cNvPr id="276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52611CF0-4E8E-4C4D-94F4-B0B3654C6C16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Resizing and Moving Window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3720" y="148752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ize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s your window to the taskbar. It is not closed; it is just h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kes your window fit the entir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o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akes your window the size it was previously (restore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Window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window in which you are working. Usually brighter in color &amp; in front of othe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C659280F-F8BF-4C23-9044-421D83D05D79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9:37:58Z</dcterms:created>
  <dc:creator>Jean Bissell</dc:creator>
  <dc:description>Copyright 2006 South-Western/Thomson</dc:description>
  <dc:language>en-US</dc:language>
  <cp:lastModifiedBy>Lenessa Keehn</cp:lastModifiedBy>
  <dcterms:modified xsi:type="dcterms:W3CDTF">2011-03-04T13:04:36Z</dcterms:modified>
  <cp:revision>68</cp:revision>
  <dc:subject/>
  <dc:title>Slide 1</dc:title>
</cp:coreProperties>
</file>